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dt" idx="1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81A20-E82F-4DB5-A212-F9988C178F2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8F3ED-7FFE-44F1-B0D2-64904C32A7C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8ED2D-A956-49C9-B2F9-5E6C370BB5F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9F722-59FC-44BF-A7D0-F92076C017D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E754C-3365-42DF-A1F4-8F2544298C4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B4AD4-CCEC-4776-B0F1-247752D688D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E3DC-5826-44B5-8904-1C6CD356F17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27F09-BBC7-49D8-8230-EBC07524B65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DBAA-9D99-410E-83B9-F39038DB3A5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5CABC-0FAC-4080-9796-621B0968EF2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FE7F0-1FDE-4E18-A853-111907880A8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0FD85-4F0F-42A1-9061-A1E8565C44C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D0D64-4BCB-4B7C-A747-6B65AB1173E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8901-C3F1-4512-857D-28DE6FC15E4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9F3A2-D4DC-437F-98EC-28C39C3612F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6FF96-AB4E-498C-B048-6B404DFA53A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32D24-AC6C-4BEC-8C09-5A2335647AA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FA05-0B55-4EF0-8B37-4FE80186FE8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7D009-E310-4A13-9908-C232FB7A47A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0D79D-EDD3-4560-909D-0F07BCC5492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EBC26-FC06-4F81-919A-99AEF349EB9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B6A64-358D-4C6A-B6C5-F272495E9EB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EE8A-032F-49A9-9095-118DE0869D0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6E86A-9C94-44E4-8866-60CB6DBE41F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B6406-7378-4A14-89FD-0E23219EF29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2F6A1-8EE9-4832-B9CB-0B5D8F5E9A9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B80F-715D-4C04-B008-2894FF4F4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2DF9-7E17-45C2-A06C-12DD58FB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6850-2E03-49CF-A861-8541A85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FDF9-099E-4A85-80BE-7DF7B99F3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4296A-4AD0-4398-B134-0EF5065A6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A3501-0A56-4A35-B20D-59BD1FE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EC1C5-A7A4-4784-AC7C-C4EB580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42F4-11B4-4420-A850-AAC73BA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E278F-11E1-48D3-99CB-F025D1C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4560-F0AF-4E3B-8FFC-945BFA67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434BC-E574-4E6F-8087-811E120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9785-6AE9-47A9-ACF0-59DFCF19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06FA-99B0-401C-B945-DD3CE0E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532F6-C7B9-485B-B5B4-EE88279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457D2-C98F-4D3F-A8C8-134184D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5B15-E75F-4172-AC5F-5EDDB25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82328-3288-406C-9AE0-C6B4399CA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403F-72E0-47A4-A556-7BA60013B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A1D5-6042-40FB-A098-CEE5E0DB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435-7126-44E8-AA94-F2EA34F3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38A-8E7D-4B5F-B65E-576443B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E07-7A50-49CA-823F-21939DC1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2ABC-7910-4178-BA13-BDD7E87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F55A-FAAC-4B75-AA27-BB47E232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AABD-7665-4714-B01A-C4D9136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85ED-F396-4E32-BB95-F0B340A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0EF-3C58-4FF8-96CC-0E786B8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6667-834E-42C9-AD1F-C2B4009E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B4CE-2902-4C07-BDD8-5C5A319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8334-EEFF-4938-8092-F1396ECF3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A16B1-92B8-424B-A59D-2873B3C82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8CCEE-A3FA-4CC5-B7F2-5F692ED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042B1-970F-40B6-A50D-499370F0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8539-F6F8-4F8B-AEA4-4BCAE39D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A57AE-6D86-46BF-935C-28A72D8A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AFF77-7231-4BE6-A921-9E9DB7D9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C0C53-C232-42B1-9041-9E2FF940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FA7DE-C591-42B0-9C7D-AA05BE2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71A2D-7A5F-443A-BB33-173C6F8E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80C89-B4D9-4834-B333-37718E5A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4D09E-88D0-4F15-8E5A-E56A6A7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45F4A-A1D7-458F-A105-FFDE2FB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792CB-E9B9-4158-A97E-EECBD8EAC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D2CFA-C1A2-47F7-854E-FA203360C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84D5-68BF-42ED-AA1E-BE8D488B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08D2F-D56B-468F-A234-C1DA113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32C9B-32AF-40D5-BC88-3E90BEE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60C16-F2E3-4107-8D5B-EFC155F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8BF43-8208-4AF8-AA5B-CBCBD5FB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6CAA3-F7B7-4542-83EB-78374053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F1A78-22FA-4828-96D9-80B914AE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AF749-47A2-4669-A048-07E10CF9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BCB7F-02F6-4E79-A0FD-3B435B7D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52B90-D065-404D-8700-80874D2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3DB2B-7AC2-48D0-8EF6-C8BE05E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99A3-21E8-4C44-89AD-0C5760E0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8BA62-9493-4FCB-B0A3-E4124ED46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37D2-ED9A-4C47-9265-F7771F8AD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2ED9-445F-4DEA-AFA1-39B934BA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D03D-40E6-49AF-923D-10D541E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6ED4-8827-4D2A-B91E-0B65F63C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4911-5BEE-4591-8AD4-F46EB28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BA7E-1E80-42B7-AD98-F5C2A834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F533-605F-489D-851A-BFC217C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7BBD-2BE1-4E67-AD35-826AED26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64B5-06DE-41E0-AC71-5ABB87BA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5E25-2714-4F6F-BC43-7CF0C6B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F013-0F3F-41C2-8B12-491E227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A3DF-D45C-4912-89DF-F31DB52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43DA-1151-4127-B39E-88A4442B7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FE7FA-4306-4FDD-B0A6-929DACE42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F3098-7BB6-41D9-925C-5296180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2753E-DCF0-490F-B347-4DAC37E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B75F3-C4A9-4C87-8E6A-5E2A1550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5F40C-51ED-40CE-8EF2-C1FBDE31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8FB69-AA7B-4CBC-A195-F484023A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A978E-E8F0-44F4-A667-F092933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F324-BB55-4898-89CF-9398D9D5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DD5E5-CFC5-44C2-BB6F-9E7174F6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2FED9-8E37-470D-8D78-34AAAC2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C065D-1E42-474C-8193-CA4BF3B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5B065-247A-4BBE-9E96-D46D162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3B26D-7734-4FDE-B79F-24FDCDDA4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0F1D-1C3A-47BC-8E32-F3EBB43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853560"/>
            <a:ext cx="7020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920" y="2324160"/>
            <a:ext cx="677232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97240" y="218880"/>
            <a:ext cx="2128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641840" y="57229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649400" y="218880"/>
            <a:ext cx="1327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0BB71B-6136-46EE-9799-12D739988447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38DCE2-17FB-4509-9F73-0F0BDE44022E}" type="slidenum">
              <a:rPr b="0" lang="it-IT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49" name="Group 9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0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52" name="Group 12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5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"/>
          <p:cNvGrpSpPr/>
          <p:nvPr/>
        </p:nvGrpSpPr>
        <p:grpSpPr>
          <a:xfrm>
            <a:off x="-1483200" y="-1440"/>
            <a:ext cx="12137040" cy="7981200"/>
            <a:chOff x="-1483200" y="-1440"/>
            <a:chExt cx="12137040" cy="7981200"/>
          </a:xfrm>
        </p:grpSpPr>
        <p:grpSp>
          <p:nvGrpSpPr>
            <p:cNvPr id="92" name="Group 2"/>
            <p:cNvGrpSpPr/>
            <p:nvPr/>
          </p:nvGrpSpPr>
          <p:grpSpPr>
            <a:xfrm>
              <a:off x="-751320" y="0"/>
              <a:ext cx="10633320" cy="7674840"/>
              <a:chOff x="-751320" y="0"/>
              <a:chExt cx="10633320" cy="7674840"/>
            </a:xfrm>
          </p:grpSpPr>
          <p:grpSp>
            <p:nvGrpSpPr>
              <p:cNvPr id="93" name="Group 3"/>
              <p:cNvGrpSpPr/>
              <p:nvPr/>
            </p:nvGrpSpPr>
            <p:grpSpPr>
              <a:xfrm>
                <a:off x="-751320" y="0"/>
                <a:ext cx="2919960" cy="7673040"/>
                <a:chOff x="-751320" y="0"/>
                <a:chExt cx="2919960" cy="7673040"/>
              </a:xfrm>
            </p:grpSpPr>
            <p:sp>
              <p:nvSpPr>
                <p:cNvPr id="94" name="Rectangle 4"/>
                <p:cNvSpPr/>
                <p:nvPr/>
              </p:nvSpPr>
              <p:spPr>
                <a:xfrm>
                  <a:off x="312480" y="0"/>
                  <a:ext cx="185616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5"/>
                <p:cNvSpPr/>
                <p:nvPr/>
              </p:nvSpPr>
              <p:spPr>
                <a:xfrm>
                  <a:off x="-751320" y="0"/>
                  <a:ext cx="52668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6"/>
                <p:cNvSpPr/>
                <p:nvPr/>
              </p:nvSpPr>
              <p:spPr>
                <a:xfrm>
                  <a:off x="-484200" y="0"/>
                  <a:ext cx="88020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7" name="Group 7"/>
              <p:cNvGrpSpPr/>
              <p:nvPr/>
            </p:nvGrpSpPr>
            <p:grpSpPr>
              <a:xfrm>
                <a:off x="-258840" y="0"/>
                <a:ext cx="2919960" cy="7673040"/>
                <a:chOff x="-258840" y="0"/>
                <a:chExt cx="2919960" cy="767304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803880" y="0"/>
                  <a:ext cx="18572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-258840" y="0"/>
                  <a:ext cx="5270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00" name="Rectangle 10"/>
                <p:cNvSpPr/>
                <p:nvPr/>
              </p:nvSpPr>
              <p:spPr>
                <a:xfrm>
                  <a:off x="4680" y="0"/>
                  <a:ext cx="88092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1" name="Group 11"/>
              <p:cNvGrpSpPr/>
              <p:nvPr/>
            </p:nvGrpSpPr>
            <p:grpSpPr>
              <a:xfrm>
                <a:off x="6962040" y="0"/>
                <a:ext cx="2919960" cy="7673040"/>
                <a:chOff x="6962040" y="0"/>
                <a:chExt cx="2919960" cy="767304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 rot="10800000">
                  <a:off x="6962040" y="0"/>
                  <a:ext cx="185616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03" name="Rectangle 13"/>
                <p:cNvSpPr/>
                <p:nvPr/>
              </p:nvSpPr>
              <p:spPr>
                <a:xfrm rot="10800000">
                  <a:off x="9354960" y="0"/>
                  <a:ext cx="5270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 rot="10800000">
                  <a:off x="8734320" y="0"/>
                  <a:ext cx="88020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05" name="Rectangle 15"/>
              <p:cNvSpPr/>
              <p:nvPr/>
            </p:nvSpPr>
            <p:spPr>
              <a:xfrm>
                <a:off x="3682080" y="0"/>
                <a:ext cx="327420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6" name="Rectangle 16"/>
              <p:cNvSpPr/>
              <p:nvPr/>
            </p:nvSpPr>
            <p:spPr>
              <a:xfrm>
                <a:off x="2616120" y="0"/>
                <a:ext cx="52524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7" name="Rectangle 17"/>
              <p:cNvSpPr/>
              <p:nvPr/>
            </p:nvSpPr>
            <p:spPr>
              <a:xfrm>
                <a:off x="2883240" y="0"/>
                <a:ext cx="88236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08" name="Freeform 18"/>
            <p:cNvSpPr/>
            <p:nvPr/>
          </p:nvSpPr>
          <p:spPr>
            <a:xfrm>
              <a:off x="-764640" y="5640120"/>
              <a:ext cx="10637280" cy="13078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-764640" y="3881520"/>
              <a:ext cx="10637280" cy="9910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-779760" y="6316200"/>
              <a:ext cx="3492000" cy="135072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734120" y="5748840"/>
              <a:ext cx="8121600" cy="1919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 rot="1800000">
              <a:off x="2734560" y="319680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3" name="AutoShape 24"/>
            <p:cNvSpPr/>
            <p:nvPr/>
          </p:nvSpPr>
          <p:spPr>
            <a:xfrm rot="1800000">
              <a:off x="3579480" y="4614840"/>
              <a:ext cx="1858320" cy="1550880"/>
            </a:xfrm>
            <a:prstGeom prst="hexagon">
              <a:avLst>
                <a:gd name="adj" fmla="val 29661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4" name="AutoShape 25"/>
            <p:cNvSpPr/>
            <p:nvPr/>
          </p:nvSpPr>
          <p:spPr>
            <a:xfrm rot="1800000">
              <a:off x="3588840" y="177840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5" name="AutoShape 26"/>
            <p:cNvSpPr/>
            <p:nvPr/>
          </p:nvSpPr>
          <p:spPr>
            <a:xfrm rot="1800000">
              <a:off x="2714760" y="35928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6" name="AutoShape 27"/>
            <p:cNvSpPr/>
            <p:nvPr/>
          </p:nvSpPr>
          <p:spPr>
            <a:xfrm rot="1800000">
              <a:off x="4444920" y="602424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7" name="Freeform 28"/>
            <p:cNvSpPr/>
            <p:nvPr/>
          </p:nvSpPr>
          <p:spPr>
            <a:xfrm rot="1800000">
              <a:off x="-1193760" y="4702680"/>
              <a:ext cx="1463400" cy="154908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8" name="AutoShape 29"/>
            <p:cNvSpPr/>
            <p:nvPr/>
          </p:nvSpPr>
          <p:spPr>
            <a:xfrm rot="1800000">
              <a:off x="-721440" y="604728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9" name="AutoShape 30"/>
            <p:cNvSpPr/>
            <p:nvPr/>
          </p:nvSpPr>
          <p:spPr>
            <a:xfrm rot="1800000">
              <a:off x="-687600" y="318672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0" name="AutoShape 31"/>
            <p:cNvSpPr/>
            <p:nvPr/>
          </p:nvSpPr>
          <p:spPr>
            <a:xfrm rot="1800000">
              <a:off x="152640" y="4614840"/>
              <a:ext cx="1858320" cy="1550880"/>
            </a:xfrm>
            <a:prstGeom prst="hexagon">
              <a:avLst>
                <a:gd name="adj" fmla="val 29661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1" name="AutoShape 32"/>
            <p:cNvSpPr/>
            <p:nvPr/>
          </p:nvSpPr>
          <p:spPr>
            <a:xfrm rot="1800000">
              <a:off x="1006560" y="605700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2" name="AutoShape 33"/>
            <p:cNvSpPr/>
            <p:nvPr/>
          </p:nvSpPr>
          <p:spPr>
            <a:xfrm rot="1800000">
              <a:off x="1029960" y="319644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3" name="AutoShape 34"/>
            <p:cNvSpPr/>
            <p:nvPr/>
          </p:nvSpPr>
          <p:spPr>
            <a:xfrm rot="1800000">
              <a:off x="175680" y="174636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4" name="AutoShape 35"/>
            <p:cNvSpPr/>
            <p:nvPr/>
          </p:nvSpPr>
          <p:spPr>
            <a:xfrm rot="1800000">
              <a:off x="7172640" y="4640040"/>
              <a:ext cx="1856520" cy="1550520"/>
            </a:xfrm>
            <a:prstGeom prst="hexagon">
              <a:avLst>
                <a:gd name="adj" fmla="val 2966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5" name="AutoShape 36"/>
            <p:cNvSpPr/>
            <p:nvPr/>
          </p:nvSpPr>
          <p:spPr>
            <a:xfrm rot="1800000">
              <a:off x="8036640" y="6068520"/>
              <a:ext cx="1856520" cy="1550880"/>
            </a:xfrm>
            <a:prstGeom prst="hexagon">
              <a:avLst>
                <a:gd name="adj" fmla="val 29660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6" name="AutoShape 37"/>
            <p:cNvSpPr/>
            <p:nvPr/>
          </p:nvSpPr>
          <p:spPr>
            <a:xfrm rot="1800000">
              <a:off x="8036640" y="3209400"/>
              <a:ext cx="1856520" cy="1550520"/>
            </a:xfrm>
            <a:prstGeom prst="hexagon">
              <a:avLst>
                <a:gd name="adj" fmla="val 2966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 rot="1800000">
              <a:off x="8921520" y="4539240"/>
              <a:ext cx="1441440" cy="154872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rot="1800000">
              <a:off x="8921160" y="1686960"/>
              <a:ext cx="1437840" cy="15505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29" name="Rectangle 4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853560"/>
            <a:ext cx="7020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42920" y="2324160"/>
            <a:ext cx="677232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5"/>
          </p:nvPr>
        </p:nvSpPr>
        <p:spPr>
          <a:xfrm>
            <a:off x="5997240" y="2235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649400" y="223560"/>
            <a:ext cx="13273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efef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7FF2EC-2A49-4F3E-9AA9-B3E32D10C19D}" type="slidenum">
              <a:rPr b="0" lang="it-IT" sz="1200" spc="-1" strike="noStrike">
                <a:solidFill>
                  <a:srgbClr val="fefef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-1483200" y="-1440"/>
            <a:ext cx="12137040" cy="7981200"/>
            <a:chOff x="-1483200" y="-1440"/>
            <a:chExt cx="12137040" cy="7981200"/>
          </a:xfrm>
        </p:grpSpPr>
        <p:grpSp>
          <p:nvGrpSpPr>
            <p:cNvPr id="175" name="Group 2"/>
            <p:cNvGrpSpPr/>
            <p:nvPr/>
          </p:nvGrpSpPr>
          <p:grpSpPr>
            <a:xfrm>
              <a:off x="-751320" y="0"/>
              <a:ext cx="10633320" cy="7674840"/>
              <a:chOff x="-751320" y="0"/>
              <a:chExt cx="10633320" cy="7674840"/>
            </a:xfrm>
          </p:grpSpPr>
          <p:grpSp>
            <p:nvGrpSpPr>
              <p:cNvPr id="176" name="Group 3"/>
              <p:cNvGrpSpPr/>
              <p:nvPr/>
            </p:nvGrpSpPr>
            <p:grpSpPr>
              <a:xfrm>
                <a:off x="-751320" y="0"/>
                <a:ext cx="2919960" cy="7673040"/>
                <a:chOff x="-751320" y="0"/>
                <a:chExt cx="2919960" cy="7673040"/>
              </a:xfrm>
            </p:grpSpPr>
            <p:sp>
              <p:nvSpPr>
                <p:cNvPr id="177" name="Rectangle 4"/>
                <p:cNvSpPr/>
                <p:nvPr/>
              </p:nvSpPr>
              <p:spPr>
                <a:xfrm>
                  <a:off x="312480" y="0"/>
                  <a:ext cx="185616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78" name="Rectangle 5"/>
                <p:cNvSpPr/>
                <p:nvPr/>
              </p:nvSpPr>
              <p:spPr>
                <a:xfrm>
                  <a:off x="-751320" y="0"/>
                  <a:ext cx="52668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6"/>
                <p:cNvSpPr/>
                <p:nvPr/>
              </p:nvSpPr>
              <p:spPr>
                <a:xfrm>
                  <a:off x="-484200" y="0"/>
                  <a:ext cx="88020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80" name="Group 7"/>
              <p:cNvGrpSpPr/>
              <p:nvPr/>
            </p:nvGrpSpPr>
            <p:grpSpPr>
              <a:xfrm>
                <a:off x="-258840" y="0"/>
                <a:ext cx="2919960" cy="7673040"/>
                <a:chOff x="-258840" y="0"/>
                <a:chExt cx="2919960" cy="7673040"/>
              </a:xfrm>
            </p:grpSpPr>
            <p:sp>
              <p:nvSpPr>
                <p:cNvPr id="181" name="Rectangle 8"/>
                <p:cNvSpPr/>
                <p:nvPr/>
              </p:nvSpPr>
              <p:spPr>
                <a:xfrm>
                  <a:off x="803880" y="0"/>
                  <a:ext cx="18572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82" name="Rectangle 9"/>
                <p:cNvSpPr/>
                <p:nvPr/>
              </p:nvSpPr>
              <p:spPr>
                <a:xfrm>
                  <a:off x="-258840" y="0"/>
                  <a:ext cx="5270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83" name="Rectangle 10"/>
                <p:cNvSpPr/>
                <p:nvPr/>
              </p:nvSpPr>
              <p:spPr>
                <a:xfrm>
                  <a:off x="4680" y="0"/>
                  <a:ext cx="88092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84" name="Group 11"/>
              <p:cNvGrpSpPr/>
              <p:nvPr/>
            </p:nvGrpSpPr>
            <p:grpSpPr>
              <a:xfrm>
                <a:off x="6962040" y="0"/>
                <a:ext cx="2919960" cy="7673040"/>
                <a:chOff x="6962040" y="0"/>
                <a:chExt cx="2919960" cy="7673040"/>
              </a:xfrm>
            </p:grpSpPr>
            <p:sp>
              <p:nvSpPr>
                <p:cNvPr id="185" name="Rectangle 12"/>
                <p:cNvSpPr/>
                <p:nvPr/>
              </p:nvSpPr>
              <p:spPr>
                <a:xfrm rot="10800000">
                  <a:off x="6962040" y="0"/>
                  <a:ext cx="185616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86" name="Rectangle 13"/>
                <p:cNvSpPr/>
                <p:nvPr/>
              </p:nvSpPr>
              <p:spPr>
                <a:xfrm rot="10800000">
                  <a:off x="9354960" y="0"/>
                  <a:ext cx="52704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  <p:sp>
              <p:nvSpPr>
                <p:cNvPr id="187" name="Rectangle 14"/>
                <p:cNvSpPr/>
                <p:nvPr/>
              </p:nvSpPr>
              <p:spPr>
                <a:xfrm rot="10800000">
                  <a:off x="8734320" y="0"/>
                  <a:ext cx="880200" cy="767304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8" name="Rectangle 15"/>
              <p:cNvSpPr/>
              <p:nvPr/>
            </p:nvSpPr>
            <p:spPr>
              <a:xfrm>
                <a:off x="3682080" y="0"/>
                <a:ext cx="327420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89" name="Rectangle 16"/>
              <p:cNvSpPr/>
              <p:nvPr/>
            </p:nvSpPr>
            <p:spPr>
              <a:xfrm>
                <a:off x="2616120" y="0"/>
                <a:ext cx="52524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90" name="Rectangle 17"/>
              <p:cNvSpPr/>
              <p:nvPr/>
            </p:nvSpPr>
            <p:spPr>
              <a:xfrm>
                <a:off x="2883240" y="0"/>
                <a:ext cx="882360" cy="767484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sp>
          <p:nvSpPr>
            <p:cNvPr id="191" name="Freeform 18"/>
            <p:cNvSpPr/>
            <p:nvPr/>
          </p:nvSpPr>
          <p:spPr>
            <a:xfrm>
              <a:off x="-764640" y="5640120"/>
              <a:ext cx="10637280" cy="13078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2" name="Freeform 19"/>
            <p:cNvSpPr/>
            <p:nvPr/>
          </p:nvSpPr>
          <p:spPr>
            <a:xfrm>
              <a:off x="-764640" y="3881520"/>
              <a:ext cx="10637280" cy="9910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3" name="Freeform 20"/>
            <p:cNvSpPr/>
            <p:nvPr/>
          </p:nvSpPr>
          <p:spPr>
            <a:xfrm>
              <a:off x="-779760" y="6316200"/>
              <a:ext cx="3492000" cy="135072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4" name="Freeform 21"/>
            <p:cNvSpPr/>
            <p:nvPr/>
          </p:nvSpPr>
          <p:spPr>
            <a:xfrm>
              <a:off x="-764640" y="5917320"/>
              <a:ext cx="10637280" cy="164916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1734120" y="5748840"/>
              <a:ext cx="8121600" cy="191988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6" name="AutoShape 23"/>
            <p:cNvSpPr/>
            <p:nvPr/>
          </p:nvSpPr>
          <p:spPr>
            <a:xfrm rot="1800000">
              <a:off x="2734560" y="319680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7" name="AutoShape 24"/>
            <p:cNvSpPr/>
            <p:nvPr/>
          </p:nvSpPr>
          <p:spPr>
            <a:xfrm rot="1800000">
              <a:off x="3579480" y="4614840"/>
              <a:ext cx="1858320" cy="1550880"/>
            </a:xfrm>
            <a:prstGeom prst="hexagon">
              <a:avLst>
                <a:gd name="adj" fmla="val 29661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8" name="AutoShape 25"/>
            <p:cNvSpPr/>
            <p:nvPr/>
          </p:nvSpPr>
          <p:spPr>
            <a:xfrm rot="1800000">
              <a:off x="3588840" y="177840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 rot="1800000">
              <a:off x="2714760" y="35928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0" name="AutoShape 27"/>
            <p:cNvSpPr/>
            <p:nvPr/>
          </p:nvSpPr>
          <p:spPr>
            <a:xfrm rot="1800000">
              <a:off x="4444920" y="602424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1" name="Freeform 28"/>
            <p:cNvSpPr/>
            <p:nvPr/>
          </p:nvSpPr>
          <p:spPr>
            <a:xfrm rot="1800000">
              <a:off x="-1193760" y="4702680"/>
              <a:ext cx="1463400" cy="154908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2" name="AutoShape 29"/>
            <p:cNvSpPr/>
            <p:nvPr/>
          </p:nvSpPr>
          <p:spPr>
            <a:xfrm rot="1800000">
              <a:off x="-721440" y="6047280"/>
              <a:ext cx="1858680" cy="1550520"/>
            </a:xfrm>
            <a:prstGeom prst="hexagon">
              <a:avLst>
                <a:gd name="adj" fmla="val 29674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 rot="1800000">
              <a:off x="-687600" y="318672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4" name="AutoShape 31"/>
            <p:cNvSpPr/>
            <p:nvPr/>
          </p:nvSpPr>
          <p:spPr>
            <a:xfrm rot="1800000">
              <a:off x="152640" y="4614840"/>
              <a:ext cx="1858320" cy="1550880"/>
            </a:xfrm>
            <a:prstGeom prst="hexagon">
              <a:avLst>
                <a:gd name="adj" fmla="val 29661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5" name="AutoShape 32"/>
            <p:cNvSpPr/>
            <p:nvPr/>
          </p:nvSpPr>
          <p:spPr>
            <a:xfrm rot="1800000">
              <a:off x="1006560" y="605700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6" name="AutoShape 33"/>
            <p:cNvSpPr/>
            <p:nvPr/>
          </p:nvSpPr>
          <p:spPr>
            <a:xfrm rot="1800000">
              <a:off x="1029960" y="319644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7" name="AutoShape 34"/>
            <p:cNvSpPr/>
            <p:nvPr/>
          </p:nvSpPr>
          <p:spPr>
            <a:xfrm rot="1800000">
              <a:off x="175680" y="1746360"/>
              <a:ext cx="1858320" cy="1550520"/>
            </a:xfrm>
            <a:prstGeom prst="hexagon">
              <a:avLst>
                <a:gd name="adj" fmla="val 29668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8" name="AutoShape 35"/>
            <p:cNvSpPr/>
            <p:nvPr/>
          </p:nvSpPr>
          <p:spPr>
            <a:xfrm rot="1800000">
              <a:off x="7172640" y="4640040"/>
              <a:ext cx="1856520" cy="1550520"/>
            </a:xfrm>
            <a:prstGeom prst="hexagon">
              <a:avLst>
                <a:gd name="adj" fmla="val 2966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9" name="AutoShape 36"/>
            <p:cNvSpPr/>
            <p:nvPr/>
          </p:nvSpPr>
          <p:spPr>
            <a:xfrm rot="1800000">
              <a:off x="8036640" y="6068520"/>
              <a:ext cx="1856520" cy="1550880"/>
            </a:xfrm>
            <a:prstGeom prst="hexagon">
              <a:avLst>
                <a:gd name="adj" fmla="val 29660"/>
                <a:gd name="vf" fmla="val 115470"/>
              </a:avLst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0" name="AutoShape 37"/>
            <p:cNvSpPr/>
            <p:nvPr/>
          </p:nvSpPr>
          <p:spPr>
            <a:xfrm rot="1800000">
              <a:off x="8036640" y="3209400"/>
              <a:ext cx="1856520" cy="1550520"/>
            </a:xfrm>
            <a:prstGeom prst="hexagon">
              <a:avLst>
                <a:gd name="adj" fmla="val 2966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rot="1800000">
              <a:off x="8921520" y="4539240"/>
              <a:ext cx="1441440" cy="154872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rot="1800000">
              <a:off x="8921160" y="1686960"/>
              <a:ext cx="1437840" cy="155052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13" name="Rectangle 4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cap="sq" w="1584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Rectangle 4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Rectangle 4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920" y="853560"/>
            <a:ext cx="7020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42920" y="2324160"/>
            <a:ext cx="677232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5997240" y="2235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4641840" y="5722920"/>
            <a:ext cx="34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8"/>
          </p:nvPr>
        </p:nvSpPr>
        <p:spPr>
          <a:xfrm>
            <a:off x="4649400" y="223560"/>
            <a:ext cx="13273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efefe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1BA6DB-F0C9-4125-923D-537FF94D8AFE}" type="slidenum">
              <a:rPr b="0" lang="it-IT" sz="1200" spc="-1" strike="noStrike">
                <a:solidFill>
                  <a:srgbClr val="fefef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261" name="Group 4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262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64" name="Group 7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265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0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9464A0-44DD-4300-A22F-F1EAEF3E102A}" type="slidenum">
              <a:rPr b="0" lang="it-IT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311" name="Group 4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312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314" name="Group 7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315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523CEE-B8B3-458D-AC46-A3325DC4C866}" type="slidenum">
              <a:rPr b="0" lang="it-IT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AutoShape 2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4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DE937B-5241-4903-BF45-52528A59BF5A}" type="slidenum">
              <a:rPr b="0" lang="it-IT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57200" y="80172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Leggere i dati per…</a:t>
            </a:r>
            <a:endParaRPr b="0" lang="en-US" sz="5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536400" y="1650960"/>
            <a:ext cx="7815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l percorso di autovalutazione della scuola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dividuare i punti di forza e gli eventuali punti di debolezza della nostra proposta educativa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fornire informazioni affidabili e utili a orientare le scelte didattiche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gliorare e potenziare l'offerta formativa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ssicurare il successo formativo di ciascun alunno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1501920" y="85392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2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4" name="Picture 3" descr="D:\per rosaria\grafici e tabelle invalsi 2015\grafico_5_liv8_ita_classe_412010370802.PNG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1501920" y="85392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3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6" name="Picture 3" descr="D:\per rosaria\grafici e tabelle invalsi 2015\grafico_5_liv8_ita_classe_412010370803.PNG"/>
          <p:cNvPicPr/>
          <p:nvPr/>
        </p:nvPicPr>
        <p:blipFill>
          <a:blip r:embed="rId1"/>
          <a:stretch/>
        </p:blipFill>
        <p:spPr>
          <a:xfrm>
            <a:off x="684360" y="1773360"/>
            <a:ext cx="777528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1501920" y="85392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4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AutoShape 2"/>
          <p:cNvSpPr/>
          <p:nvPr/>
        </p:nvSpPr>
        <p:spPr>
          <a:xfrm>
            <a:off x="1469880" y="852480"/>
            <a:ext cx="5759640" cy="57780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4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9" name="Picture 4" descr="D:\per rosaria\grafici e tabelle invalsi 2015\grafico_5_liv8_ita_classe_412010370804.PNG"/>
          <p:cNvPicPr/>
          <p:nvPr/>
        </p:nvPicPr>
        <p:blipFill>
          <a:blip r:embed="rId1"/>
          <a:stretch/>
        </p:blipFill>
        <p:spPr>
          <a:xfrm>
            <a:off x="611280" y="1916280"/>
            <a:ext cx="813744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1501920" y="85392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4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1469880" y="852480"/>
            <a:ext cx="5759640" cy="57780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5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2" name="Picture 4" descr="D:\per rosaria\grafici e tabelle invalsi 2015\grafico_5_liv8_ita_classe_412010370805.PNG"/>
          <p:cNvPicPr/>
          <p:nvPr/>
        </p:nvPicPr>
        <p:blipFill>
          <a:blip r:embed="rId1"/>
          <a:stretch/>
        </p:blipFill>
        <p:spPr>
          <a:xfrm>
            <a:off x="755640" y="1700280"/>
            <a:ext cx="7993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2"/>
          <p:cNvSpPr/>
          <p:nvPr/>
        </p:nvSpPr>
        <p:spPr>
          <a:xfrm>
            <a:off x="1496880" y="84924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6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4" name="Picture 3" descr="D:\per rosaria\grafici e tabelle invalsi 2015\grafico_5_liv8_ita_classe_412010370806.PNG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"/>
          <p:cNvSpPr/>
          <p:nvPr/>
        </p:nvSpPr>
        <p:spPr>
          <a:xfrm>
            <a:off x="1496880" y="84924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7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6" name="Picture 3" descr="D:\per rosaria\grafici e tabelle invalsi 2015\grafico_5_liv8_ita_classe_412010370807.PNG"/>
          <p:cNvPicPr/>
          <p:nvPr/>
        </p:nvPicPr>
        <p:blipFill>
          <a:blip r:embed="rId1"/>
          <a:stretch/>
        </p:blipFill>
        <p:spPr>
          <a:xfrm>
            <a:off x="665280" y="1557360"/>
            <a:ext cx="7848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401760" y="417600"/>
            <a:ext cx="82296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Italiano:  esiti conseguiti nelle parti del testo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457200" y="1935000"/>
            <a:ext cx="822960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46600" indent="-2466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 risultati complessivi ottenuti  in lingua italiana sono sostanzialmente in linea con la media del centro italia e superiori a quella  nazionale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46600" indent="-2466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3 classi si collocano al di sopra della media (due di molto) e 3 classi si collocano al di sotto (due di molto)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46600" indent="-2466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 prestazioni migliori riguardano il testo narrativo, criticità emergono nel testo espositivo e in grammatic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/>
          <p:cNvSpPr/>
          <p:nvPr/>
        </p:nvSpPr>
        <p:spPr>
          <a:xfrm>
            <a:off x="1492200" y="84456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1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0" name="Picture 3" descr="E:\mat grafici mtab invalsi 2015\grafico_5_liv8_mat_classe_412010370801.PNG"/>
          <p:cNvPicPr/>
          <p:nvPr/>
        </p:nvPicPr>
        <p:blipFill>
          <a:blip r:embed="rId1"/>
          <a:stretch/>
        </p:blipFill>
        <p:spPr>
          <a:xfrm>
            <a:off x="500040" y="1643040"/>
            <a:ext cx="792972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"/>
          <p:cNvSpPr/>
          <p:nvPr/>
        </p:nvSpPr>
        <p:spPr>
          <a:xfrm>
            <a:off x="1482840" y="835200"/>
            <a:ext cx="5759280" cy="57600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2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2" name="Picture 3" descr="E:\mat grafici mtab invalsi 2015\grafico_5_liv8_mat_classe_412010370802.PNG"/>
          <p:cNvPicPr/>
          <p:nvPr/>
        </p:nvPicPr>
        <p:blipFill>
          <a:blip r:embed="rId1"/>
          <a:stretch/>
        </p:blipFill>
        <p:spPr>
          <a:xfrm>
            <a:off x="500040" y="157176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1473120" y="82548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3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4" name="Picture 3" descr="E:\mat grafici mtab invalsi 2015\grafico_5_liv8_mat_classe_412010370803.PNG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1420920" y="50976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Organizzazione dell’attività di analis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1224000" y="2265480"/>
            <a:ext cx="2482920" cy="398880"/>
          </a:xfrm>
          <a:prstGeom prst="rect">
            <a:avLst/>
          </a:prstGeom>
          <a:gradFill rotWithShape="0">
            <a:gsLst>
              <a:gs pos="0">
                <a:srgbClr val="dee5f8"/>
              </a:gs>
              <a:gs pos="100000">
                <a:srgbClr val="8cab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isultati complessiv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664000" y="3489480"/>
            <a:ext cx="2057400" cy="398880"/>
          </a:xfrm>
          <a:prstGeom prst="rect">
            <a:avLst/>
          </a:prstGeom>
          <a:gradFill rotWithShape="0">
            <a:gsLst>
              <a:gs pos="0">
                <a:srgbClr val="ffca00"/>
              </a:gs>
              <a:gs pos="100000">
                <a:srgbClr val="a074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ti CLASSI II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08360" y="3240000"/>
            <a:ext cx="1027440" cy="398880"/>
          </a:xfrm>
          <a:prstGeom prst="rect">
            <a:avLst/>
          </a:prstGeom>
          <a:gradFill rotWithShape="0">
            <a:gsLst>
              <a:gs pos="0">
                <a:srgbClr val="ffca00"/>
              </a:gs>
              <a:gs pos="100000">
                <a:srgbClr val="a074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aliano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608360" y="3743280"/>
            <a:ext cx="1717920" cy="398880"/>
          </a:xfrm>
          <a:prstGeom prst="rect">
            <a:avLst/>
          </a:prstGeom>
          <a:gradFill rotWithShape="0">
            <a:gsLst>
              <a:gs pos="0">
                <a:srgbClr val="ffca00"/>
              </a:gs>
              <a:gs pos="100000">
                <a:srgbClr val="a074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tematic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20" name="Group 6"/>
          <p:cNvGrpSpPr/>
          <p:nvPr/>
        </p:nvGrpSpPr>
        <p:grpSpPr>
          <a:xfrm>
            <a:off x="2519280" y="4960800"/>
            <a:ext cx="4281480" cy="409680"/>
            <a:chOff x="2519280" y="4960800"/>
            <a:chExt cx="4281480" cy="409680"/>
          </a:xfrm>
        </p:grpSpPr>
        <p:pic>
          <p:nvPicPr>
            <p:cNvPr id="421" name="Picture 7" descr=""/>
            <p:cNvPicPr/>
            <p:nvPr/>
          </p:nvPicPr>
          <p:blipFill>
            <a:blip r:embed="rId2"/>
            <a:stretch/>
          </p:blipFill>
          <p:spPr>
            <a:xfrm>
              <a:off x="2519280" y="4960800"/>
              <a:ext cx="42814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8"/>
            <p:cNvSpPr/>
            <p:nvPr/>
          </p:nvSpPr>
          <p:spPr>
            <a:xfrm>
              <a:off x="2525760" y="4967280"/>
              <a:ext cx="427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ati parti della prova – CLASSI III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23" name="Group 9"/>
          <p:cNvGrpSpPr/>
          <p:nvPr/>
        </p:nvGrpSpPr>
        <p:grpSpPr>
          <a:xfrm>
            <a:off x="6696000" y="4680000"/>
            <a:ext cx="1032120" cy="405360"/>
            <a:chOff x="6696000" y="4680000"/>
            <a:chExt cx="1032120" cy="405360"/>
          </a:xfrm>
        </p:grpSpPr>
        <p:pic>
          <p:nvPicPr>
            <p:cNvPr id="424" name="Picture 10" descr=""/>
            <p:cNvPicPr/>
            <p:nvPr/>
          </p:nvPicPr>
          <p:blipFill>
            <a:blip r:embed="rId3"/>
            <a:stretch/>
          </p:blipFill>
          <p:spPr>
            <a:xfrm>
              <a:off x="6696000" y="4680000"/>
              <a:ext cx="10321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1"/>
            <p:cNvSpPr/>
            <p:nvPr/>
          </p:nvSpPr>
          <p:spPr>
            <a:xfrm>
              <a:off x="6702480" y="468648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taliano 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6686640" y="5195880"/>
            <a:ext cx="1731960" cy="415800"/>
            <a:chOff x="6686640" y="5195880"/>
            <a:chExt cx="1731960" cy="415800"/>
          </a:xfrm>
        </p:grpSpPr>
        <p:pic>
          <p:nvPicPr>
            <p:cNvPr id="427" name="Picture 13" descr=""/>
            <p:cNvPicPr/>
            <p:nvPr/>
          </p:nvPicPr>
          <p:blipFill>
            <a:blip r:embed="rId4"/>
            <a:stretch/>
          </p:blipFill>
          <p:spPr>
            <a:xfrm>
              <a:off x="6686640" y="5195880"/>
              <a:ext cx="17319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14"/>
            <p:cNvSpPr/>
            <p:nvPr/>
          </p:nvSpPr>
          <p:spPr>
            <a:xfrm>
              <a:off x="6689880" y="5199120"/>
              <a:ext cx="17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atematica 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29" name="Rectangle 15"/>
          <p:cNvSpPr/>
          <p:nvPr/>
        </p:nvSpPr>
        <p:spPr>
          <a:xfrm>
            <a:off x="3600360" y="1976400"/>
            <a:ext cx="1028880" cy="398880"/>
          </a:xfrm>
          <a:prstGeom prst="rect">
            <a:avLst/>
          </a:prstGeom>
          <a:gradFill rotWithShape="0">
            <a:gsLst>
              <a:gs pos="0">
                <a:srgbClr val="dee5f8"/>
              </a:gs>
              <a:gs pos="100000">
                <a:srgbClr val="8cab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aliano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3610080" y="2592360"/>
            <a:ext cx="1717560" cy="398880"/>
          </a:xfrm>
          <a:prstGeom prst="rect">
            <a:avLst/>
          </a:prstGeom>
          <a:gradFill rotWithShape="0">
            <a:gsLst>
              <a:gs pos="0">
                <a:srgbClr val="dee5f8"/>
              </a:gs>
              <a:gs pos="100000">
                <a:srgbClr val="8cab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tematic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AutoShape 17"/>
          <p:cNvSpPr/>
          <p:nvPr/>
        </p:nvSpPr>
        <p:spPr>
          <a:xfrm>
            <a:off x="1511280" y="3268800"/>
            <a:ext cx="1006560" cy="763560"/>
          </a:xfrm>
          <a:custGeom>
            <a:avLst/>
            <a:gdLst>
              <a:gd name="textAreaLeft" fmla="*/ 190800 w 1006560"/>
              <a:gd name="textAreaRight" fmla="*/ 815760 w 1006560"/>
              <a:gd name="textAreaTop" fmla="*/ 190800 h 763560"/>
              <a:gd name="textAreaBottom" fmla="*/ 572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06" y="5400"/>
                </a:lnTo>
                <a:lnTo>
                  <a:pt x="13406" y="0"/>
                </a:lnTo>
                <a:lnTo>
                  <a:pt x="21600" y="10800"/>
                </a:lnTo>
                <a:lnTo>
                  <a:pt x="13406" y="21600"/>
                </a:lnTo>
                <a:lnTo>
                  <a:pt x="13406" y="16200"/>
                </a:lnTo>
                <a:lnTo>
                  <a:pt x="0" y="16200"/>
                </a:lnTo>
                <a:lnTo>
                  <a:pt x="40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1c6f7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AutoShape 18"/>
          <p:cNvSpPr/>
          <p:nvPr/>
        </p:nvSpPr>
        <p:spPr>
          <a:xfrm>
            <a:off x="1511280" y="4824360"/>
            <a:ext cx="1006560" cy="763560"/>
          </a:xfrm>
          <a:custGeom>
            <a:avLst/>
            <a:gdLst>
              <a:gd name="textAreaLeft" fmla="*/ 190800 w 1006560"/>
              <a:gd name="textAreaRight" fmla="*/ 815760 w 1006560"/>
              <a:gd name="textAreaTop" fmla="*/ 190800 h 763560"/>
              <a:gd name="textAreaBottom" fmla="*/ 572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06" y="5400"/>
                </a:lnTo>
                <a:lnTo>
                  <a:pt x="13406" y="0"/>
                </a:lnTo>
                <a:lnTo>
                  <a:pt x="21600" y="10800"/>
                </a:lnTo>
                <a:lnTo>
                  <a:pt x="13406" y="21600"/>
                </a:lnTo>
                <a:lnTo>
                  <a:pt x="13406" y="16200"/>
                </a:lnTo>
                <a:lnTo>
                  <a:pt x="0" y="16200"/>
                </a:lnTo>
                <a:lnTo>
                  <a:pt x="40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2"/>
          <p:cNvSpPr/>
          <p:nvPr/>
        </p:nvSpPr>
        <p:spPr>
          <a:xfrm>
            <a:off x="1468440" y="82080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4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6" name="Picture 3" descr="E:\mat grafici mtab invalsi 2015\grafico_5_liv8_mat_classe_412010370804.PNG"/>
          <p:cNvPicPr/>
          <p:nvPr/>
        </p:nvPicPr>
        <p:blipFill>
          <a:blip r:embed="rId1"/>
          <a:stretch/>
        </p:blipFill>
        <p:spPr>
          <a:xfrm>
            <a:off x="571680" y="1571760"/>
            <a:ext cx="80010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2"/>
          <p:cNvSpPr/>
          <p:nvPr/>
        </p:nvSpPr>
        <p:spPr>
          <a:xfrm>
            <a:off x="1468440" y="82080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5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8" name="Picture 3" descr="E:\mat grafici mtab invalsi 2015\grafico_5_liv8_mat_classe_412010370805.PNG"/>
          <p:cNvPicPr/>
          <p:nvPr/>
        </p:nvPicPr>
        <p:blipFill>
          <a:blip r:embed="rId1"/>
          <a:stretch/>
        </p:blipFill>
        <p:spPr>
          <a:xfrm>
            <a:off x="642960" y="1785960"/>
            <a:ext cx="79297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/>
          <p:cNvSpPr/>
          <p:nvPr/>
        </p:nvSpPr>
        <p:spPr>
          <a:xfrm>
            <a:off x="1468440" y="82080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6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0" name="Picture 2" descr="E:\mat grafici mtab invalsi 2015\grafico_5_liv8_mat_classe_412010370806.PNG"/>
          <p:cNvPicPr/>
          <p:nvPr/>
        </p:nvPicPr>
        <p:blipFill>
          <a:blip r:embed="rId1"/>
          <a:stretch/>
        </p:blipFill>
        <p:spPr>
          <a:xfrm>
            <a:off x="357120" y="157176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1468440" y="820800"/>
            <a:ext cx="575928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7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2" name="Picture 2" descr="E:\mat grafici mtab invalsi 2015\grafico_5_liv8_mat_classe_412010370807.PNG"/>
          <p:cNvPicPr/>
          <p:nvPr/>
        </p:nvPicPr>
        <p:blipFill>
          <a:blip r:embed="rId1"/>
          <a:stretch/>
        </p:blipFill>
        <p:spPr>
          <a:xfrm>
            <a:off x="500040" y="1643040"/>
            <a:ext cx="8072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401760" y="417600"/>
            <a:ext cx="82296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Matematica:  esiti conseguiti nelle parti della prova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428760" y="2428920"/>
            <a:ext cx="8358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49120" indent="-2491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 risultati complessivi ottenuti sono superiori rispetto alle medie: del Lazio, del Centro e Nazionale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49120" indent="-2491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5 classi si collocano al di sopra della media (tre di molto) e 2 classi si collocano al di sotto (una in modo significativo)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49120" indent="-2491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 prestazioni migliori riguardano i seguenti ambiti: Relazioni e Funzioni, Dati e Previsioni; alcune criticità riguardano, anche se non in modo omogeneo, gli ambiti di: Numeri, Spazio e Figur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22492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Tavola 2A  Italiano parti della pro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28760" y="1285920"/>
          <a:ext cx="8358120" cy="5214960"/>
        </p:xfrm>
        <a:graphic>
          <a:graphicData uri="http://schemas.openxmlformats.org/drawingml/2006/table">
            <a:tbl>
              <a:tblPr/>
              <a:tblGrid>
                <a:gridCol w="1168200"/>
                <a:gridCol w="836640"/>
                <a:gridCol w="836640"/>
                <a:gridCol w="1038240"/>
                <a:gridCol w="836640"/>
                <a:gridCol w="1143000"/>
                <a:gridCol w="834840"/>
                <a:gridCol w="936720"/>
                <a:gridCol w="727200"/>
              </a:tblGrid>
              <a:tr h="328680">
                <a:tc gridSpan="9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FRIC851002 , profilo di accesso Dirigente scolastico  Prova Nazionale 20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gridSpan="9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Tavola 2A- Parti della pro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320">
                <a:tc gridSpan="9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Istituzione scolastica nel suo compless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Testo narrativ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Testo espositiv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Grammat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rova compless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5,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8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5,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9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6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9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7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9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8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9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9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9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6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2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9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1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51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48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60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52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2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69640"/>
            <a:ext cx="822492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Tavola 3a matematica: ambi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95280" y="1557360"/>
          <a:ext cx="4537080" cy="4816440"/>
        </p:xfrm>
        <a:graphic>
          <a:graphicData uri="http://schemas.openxmlformats.org/drawingml/2006/table">
            <a:tbl>
              <a:tblPr/>
              <a:tblGrid>
                <a:gridCol w="343080"/>
                <a:gridCol w="785520"/>
                <a:gridCol w="790560"/>
                <a:gridCol w="871560"/>
                <a:gridCol w="873360"/>
                <a:gridCol w="873000"/>
              </a:tblGrid>
              <a:tr h="57312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FRIC851002 , profilo di accesso Dirigente scolastico  Prova Nazionale 20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Tavola 3A - Ambiti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Istituzione scolastica nel suo compless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UMER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DATI E PREVISION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PAZIO E FIGU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6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7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5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4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8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7,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3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6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37.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6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2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0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7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2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7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entury Gothic"/>
                          <a:ea typeface="Century Gothic"/>
                        </a:rPr>
                        <a:t>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43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47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35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0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3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6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6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4932360" y="2276640"/>
          <a:ext cx="3960720" cy="3778200"/>
        </p:xfrm>
        <a:graphic>
          <a:graphicData uri="http://schemas.openxmlformats.org/drawingml/2006/table">
            <a:tbl>
              <a:tblPr/>
              <a:tblGrid>
                <a:gridCol w="942840"/>
                <a:gridCol w="943200"/>
                <a:gridCol w="566640"/>
                <a:gridCol w="942840"/>
                <a:gridCol w="565200"/>
              </a:tblGrid>
              <a:tr h="506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  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RELAZIONI E FUNZION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Prova compless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0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me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 Ita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7680"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Constantia"/>
                          <a:ea typeface="Arial Unicode MS"/>
                        </a:rPr>
                        <a:t>44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1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3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6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4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2.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0.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9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4.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75,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8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45.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Century Gothic"/>
                        </a:rPr>
                        <a:t>42.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69.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59.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2039760" y="127080"/>
            <a:ext cx="4754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103320" y="1008000"/>
            <a:ext cx="89614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 difficoltà emerse in Italiano, anche se meno diffuse rispetto allo scorso anno, rendono necessario continuare a potenziare le attività volte alla comprensione e analisi di testi espositivi e argomentativi; particolare attenzione deve essere ancora rivolta al consolidamento delle competenze grammatical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nche le difficoltà emerse in Matematica sono meno diffuse rispetto alla prova precedente, e comunque rendono necessario continuare con le attività volte a consolidare le competenze relative agli ambiti di Numeri, Spazio e Figur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34920" y="374760"/>
          <a:ext cx="9001080" cy="6751440"/>
        </p:xfrm>
        <a:graphic>
          <a:graphicData uri="http://schemas.openxmlformats.org/drawingml/2006/table">
            <a:tbl>
              <a:tblPr/>
              <a:tblGrid>
                <a:gridCol w="1347840"/>
                <a:gridCol w="1050840"/>
                <a:gridCol w="1706760"/>
                <a:gridCol w="1223640"/>
                <a:gridCol w="1008360"/>
                <a:gridCol w="1295280"/>
                <a:gridCol w="1368360"/>
              </a:tblGrid>
              <a:tr h="576720">
                <a:tc gridSpan="7"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stituzione scolastica nel suo complesso -</a:t>
                      </a: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 ITAL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0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lassi/Istitu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Media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 del punteggio percentuale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al netto del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Esiti degli studenti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al netto del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ella stessa scala del rapporto nazion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LAZIO 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60,6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entro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61,7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talia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60,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n percentu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ae00"/>
                          </a:solidFill>
                          <a:latin typeface="Constantia"/>
                          <a:ea typeface="Arial Unicode MS"/>
                        </a:rPr>
                        <a:t>6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99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b050"/>
                          </a:solidFill>
                          <a:latin typeface="Constantia"/>
                          <a:ea typeface="Arial Unicode MS"/>
                        </a:rPr>
                        <a:t>68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ae00"/>
                          </a:solidFill>
                          <a:latin typeface="Constantia"/>
                          <a:ea typeface="Arial Unicode MS"/>
                        </a:rPr>
                        <a:t>6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59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8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on sign.dif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b050"/>
                          </a:solidFill>
                          <a:latin typeface="Constantia"/>
                          <a:ea typeface="Arial Unicode MS"/>
                        </a:rPr>
                        <a:t>61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88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on sign.dif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onsign.dif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5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47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3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2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52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6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FRIC85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200" spc="-1" strike="noStrike">
                          <a:solidFill>
                            <a:srgbClr val="0000ff"/>
                          </a:solidFill>
                          <a:latin typeface="Constantia"/>
                          <a:ea typeface="Arial Unicode MS"/>
                        </a:rPr>
                        <a:t>61,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86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on sig.dif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on sig.dif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Text Box 204"/>
          <p:cNvSpPr/>
          <p:nvPr/>
        </p:nvSpPr>
        <p:spPr>
          <a:xfrm>
            <a:off x="95400" y="722160"/>
            <a:ext cx="1941480" cy="642600"/>
          </a:xfrm>
          <a:prstGeom prst="rect">
            <a:avLst/>
          </a:pr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Text Box 205"/>
          <p:cNvSpPr/>
          <p:nvPr/>
        </p:nvSpPr>
        <p:spPr>
          <a:xfrm>
            <a:off x="2212920" y="690480"/>
            <a:ext cx="3192480" cy="642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Inferiore alla 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Text Box 206"/>
          <p:cNvSpPr/>
          <p:nvPr/>
        </p:nvSpPr>
        <p:spPr>
          <a:xfrm>
            <a:off x="5657760" y="690480"/>
            <a:ext cx="3313080" cy="642600"/>
          </a:xfrm>
          <a:prstGeom prst="rect">
            <a:avLst/>
          </a:prstGeom>
          <a:noFill/>
          <a:ln cap="sq"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Superiore alla 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Rectangle 207"/>
          <p:cNvSpPr/>
          <p:nvPr/>
        </p:nvSpPr>
        <p:spPr>
          <a:xfrm>
            <a:off x="181080" y="169920"/>
            <a:ext cx="1530360" cy="398880"/>
          </a:xfrm>
          <a:prstGeom prst="rect">
            <a:avLst/>
          </a:prstGeom>
          <a:gradFill rotWithShape="0">
            <a:gsLst>
              <a:gs pos="0">
                <a:srgbClr val="f7f9ff"/>
              </a:gs>
              <a:gs pos="100000">
                <a:srgbClr val="8ba8e3"/>
              </a:gs>
            </a:gsLst>
            <a:lin ang="2700000"/>
          </a:gradFill>
          <a:ln cap="sq" w="9360">
            <a:solidFill>
              <a:srgbClr val="065093"/>
            </a:solidFill>
            <a:miter/>
          </a:ln>
          <a:effectLst>
            <a:outerShdw dist="81487" dir="1675415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I II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84240" y="1449360"/>
            <a:ext cx="894708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dia punteggio percentuale generale IC</a:t>
            </a: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Arial Unicode MS"/>
              </a:rPr>
              <a:t>3</a:t>
            </a:r>
            <a:r>
              <a:rPr b="1" lang="it-IT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ora - scuola medi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61.6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unti percentuale rispetto al campione medio del risultato del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azio (60.6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 e delle regioni del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entro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(Toscana, Lazio, Marche, Umbria: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61.7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, pertanto non significativamente differ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ispetto al punteggio medio dell'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talia (60.3), pertanto significativamente superio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4 classi su 7 registrano un valore percentuale superiore alla media del campione nazionale e 3 su 7 hanno un valore inferio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a classe registra un cheating del 36,0 con un risultato medio di 51.0 che corrisponde a 9,7 punti in meno rispetto al dato nazionale,ciò conferma il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anno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apportato alla classe in presenza di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 alto cheating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; tutte le altre classi non hanno fatto rilevare cheatin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1365120" y="61920"/>
            <a:ext cx="6372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PROVA DI ITALIANO</a:t>
            </a:r>
            <a:br>
              <a:rPr sz="4400"/>
            </a:b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classi II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49320" y="1077840"/>
          <a:ext cx="8986680" cy="5273640"/>
        </p:xfrm>
        <a:graphic>
          <a:graphicData uri="http://schemas.openxmlformats.org/drawingml/2006/table">
            <a:tbl>
              <a:tblPr/>
              <a:tblGrid>
                <a:gridCol w="1333440"/>
                <a:gridCol w="1965240"/>
                <a:gridCol w="1727280"/>
                <a:gridCol w="1224000"/>
                <a:gridCol w="936720"/>
                <a:gridCol w="1008000"/>
                <a:gridCol w="792000"/>
              </a:tblGrid>
              <a:tr h="582120">
                <a:tc gridSpan="7"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stituzione scolastica nel suo complesso –</a:t>
                      </a: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 MATEMA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516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lassi/Istitu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Media del punteggio percentuale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al netto del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Esiti degli studenti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al netto del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nella stessa scala del rapporto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LAZIO </a:t>
                      </a:r>
                      <a:br>
                        <a:rPr sz="14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52.1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Centro</a:t>
                      </a:r>
                      <a:br>
                        <a:rPr sz="14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54.3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Punteggio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talia</a:t>
                      </a:r>
                      <a:br>
                        <a:rPr sz="14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(53.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cheating</a:t>
                      </a:r>
                      <a:br>
                        <a:rPr sz="1400"/>
                      </a:b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in perc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tua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ae00"/>
                          </a:solidFill>
                          <a:latin typeface="Constantia"/>
                          <a:ea typeface="Arial Unicode MS"/>
                        </a:rPr>
                        <a:t>6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6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b050"/>
                          </a:solidFill>
                          <a:latin typeface="Constantia"/>
                          <a:ea typeface="Arial Unicode MS"/>
                        </a:rPr>
                        <a:t>64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ae00"/>
                          </a:solidFill>
                          <a:latin typeface="Constantia"/>
                          <a:ea typeface="Arial Unicode MS"/>
                        </a:rPr>
                        <a:t>6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4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8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b050"/>
                          </a:solidFill>
                          <a:latin typeface="Constantia"/>
                          <a:ea typeface="Arial Unicode MS"/>
                        </a:rPr>
                        <a:t>6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ae00"/>
                          </a:solidFill>
                          <a:latin typeface="Constantia"/>
                          <a:ea typeface="Arial Unicode MS"/>
                        </a:rPr>
                        <a:t>68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1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1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41201037080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4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16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Infe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FRIC85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nstantia"/>
                          <a:ea typeface="Arial Unicode MS"/>
                        </a:rPr>
                        <a:t>5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20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 Unicode MS"/>
                        </a:rPr>
                        <a:t>Sign. Sup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Constantia"/>
                          <a:ea typeface="Arial Unicode MS"/>
                        </a:rPr>
                        <a:t>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21960" marR="219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Text Box 204"/>
          <p:cNvSpPr/>
          <p:nvPr/>
        </p:nvSpPr>
        <p:spPr>
          <a:xfrm>
            <a:off x="95400" y="722160"/>
            <a:ext cx="1941480" cy="642600"/>
          </a:xfrm>
          <a:prstGeom prst="rect">
            <a:avLst/>
          </a:pr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Text Box 205"/>
          <p:cNvSpPr/>
          <p:nvPr/>
        </p:nvSpPr>
        <p:spPr>
          <a:xfrm>
            <a:off x="2212920" y="690480"/>
            <a:ext cx="3192480" cy="642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Inferiore alla 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Text Box 206"/>
          <p:cNvSpPr/>
          <p:nvPr/>
        </p:nvSpPr>
        <p:spPr>
          <a:xfrm>
            <a:off x="5657760" y="690480"/>
            <a:ext cx="3313080" cy="642600"/>
          </a:xfrm>
          <a:prstGeom prst="rect">
            <a:avLst/>
          </a:prstGeom>
          <a:noFill/>
          <a:ln cap="sq"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ndara"/>
                <a:ea typeface="Arial Unicode MS"/>
              </a:rPr>
              <a:t>Superiore alla media (di scuol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Rectangle 207"/>
          <p:cNvSpPr/>
          <p:nvPr/>
        </p:nvSpPr>
        <p:spPr>
          <a:xfrm>
            <a:off x="181080" y="169920"/>
            <a:ext cx="1530360" cy="398880"/>
          </a:xfrm>
          <a:prstGeom prst="rect">
            <a:avLst/>
          </a:prstGeom>
          <a:gradFill rotWithShape="0">
            <a:gsLst>
              <a:gs pos="0">
                <a:srgbClr val="f7f9ff"/>
              </a:gs>
              <a:gs pos="100000">
                <a:srgbClr val="8ba8e3"/>
              </a:gs>
            </a:gsLst>
            <a:lin ang="2700000"/>
          </a:gradFill>
          <a:ln cap="sq" w="9360">
            <a:solidFill>
              <a:srgbClr val="065093"/>
            </a:solidFill>
            <a:miter/>
          </a:ln>
          <a:effectLst>
            <a:outerShdw dist="81487" dir="1675415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I II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1511280" y="86364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Scuola media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 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RISULTATI COMPLESSIV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6" name="Picture 3" descr="D:\per rosaria\grafici e tabelle invalsi 2015\grafico_1grafico generale italiano.PNG"/>
          <p:cNvPicPr/>
          <p:nvPr/>
        </p:nvPicPr>
        <p:blipFill>
          <a:blip r:embed="rId2"/>
          <a:stretch/>
        </p:blipFill>
        <p:spPr>
          <a:xfrm>
            <a:off x="428760" y="1500120"/>
            <a:ext cx="850104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84240" y="1449360"/>
            <a:ext cx="894708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dia punteggio percentuale generale IC</a:t>
            </a:r>
            <a:r>
              <a:rPr b="1" lang="it-IT" sz="2200" spc="-1" strike="noStrike">
                <a:solidFill>
                  <a:srgbClr val="000000"/>
                </a:solidFill>
                <a:latin typeface="Garamond"/>
                <a:ea typeface="Arial Unicode MS"/>
              </a:rPr>
              <a:t>3</a:t>
            </a:r>
            <a:r>
              <a:rPr b="1" lang="it-IT" sz="2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Sora - scuola medi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59,4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unti percentuale rispetto al campione medio del risultato del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azio (52,1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 e delle regioni del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entro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(Toscana, Lazio, Marche, Umbria: 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54,3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), pertanto  significativamente superio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ispetto al punteggio medio dell'</a:t>
            </a: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talia (53,5), pertanto significativamente superio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5 classi su 7 registrano un valore percentuale superiore alla media del campione nazionale e 2 su 7 hanno un valore inferio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a classe registra un cheating dell' 18,0 con un risultato medio di 68.5 che corrisponde a 15 punti in più rispetto al dato nazionale; tre classi fanno registrare un cheating non particolarmente significativo; in tre classi non è stato rilevato cheatin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1365120" y="61920"/>
            <a:ext cx="6372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PROVA DI MATEMATICA</a:t>
            </a:r>
            <a:br>
              <a:rPr sz="4400"/>
            </a:br>
            <a:r>
              <a:rPr b="0" lang="it-IT" sz="4400" spc="-1" strike="noStrike">
                <a:solidFill>
                  <a:srgbClr val="04617b"/>
                </a:solidFill>
                <a:latin typeface="Calibri"/>
                <a:ea typeface="Arial Unicode MS"/>
              </a:rPr>
              <a:t>classe II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/>
          <p:cNvSpPr/>
          <p:nvPr/>
        </p:nvSpPr>
        <p:spPr>
          <a:xfrm>
            <a:off x="1511280" y="863640"/>
            <a:ext cx="5759640" cy="57636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Scuola media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MATEMATICA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RISULTATI COMPLESSIV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0" name="Picture 3" descr="D:\mat grafici mtab invalsi 2015\grafico generale matematica.PNG"/>
          <p:cNvPicPr/>
          <p:nvPr/>
        </p:nvPicPr>
        <p:blipFill>
          <a:blip r:embed="rId2"/>
          <a:stretch/>
        </p:blipFill>
        <p:spPr>
          <a:xfrm>
            <a:off x="428760" y="1643040"/>
            <a:ext cx="820548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1506600" y="858960"/>
            <a:ext cx="5759280" cy="576000"/>
          </a:xfrm>
          <a:prstGeom prst="roundRect">
            <a:avLst>
              <a:gd name="adj" fmla="val 273"/>
            </a:avLst>
          </a:prstGeom>
          <a:solidFill>
            <a:srgbClr val="cfe7f5"/>
          </a:solidFill>
          <a:ln w="9360">
            <a:solidFill>
              <a:srgbClr val="808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Grafico 1   </a:t>
            </a:r>
            <a:r>
              <a:rPr b="1" lang="it-IT" sz="2200" spc="-1" strike="noStrike">
                <a:solidFill>
                  <a:srgbClr val="ff0000"/>
                </a:solidFill>
                <a:latin typeface="Century Gothic"/>
                <a:ea typeface="Arial Unicode MS"/>
              </a:rPr>
              <a:t> italian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  parti della pro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2" name="Picture 3" descr="D:\per rosaria\grafici e tabelle invalsi 2015\grafico_5_liv8_ita_classe_412010370801.PNG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04:23Z</dcterms:created>
  <dc:creator>Giorgio Lucio</dc:creator>
  <dc:description/>
  <dc:language>en-US</dc:language>
  <cp:lastModifiedBy>MIRELLA PANTANELLA</cp:lastModifiedBy>
  <dcterms:modified xsi:type="dcterms:W3CDTF">2016-05-03T15:11:38Z</dcterms:modified>
  <cp:revision>244</cp:revision>
  <dc:subject/>
  <dc:title>INVALSI 2010/11</dc:title>
</cp:coreProperties>
</file>